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C39-40B2-406E-95F5-8ECC8FBC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6BD-5AB9-4400-987C-B97B325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F6A-54CF-49DD-AF57-CD53A574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728-3CBC-47C0-8E40-B945E7DD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410-D82A-4DBD-A879-A57C113C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A335-F60A-423B-8CF8-AECA8E8A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E3F-7748-4717-88A8-684BB0C0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574-F92E-4774-8F46-912B9861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C84D-A75B-424F-8972-3DF522C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682-7C88-460E-A40A-F99E581B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39A-BF36-43E7-88E6-62A35FC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7AC-F0E0-40DE-BA34-050F3A0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9CB-73AE-41CA-A7DF-C6C98F8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777B-90B0-4B51-B130-2DEBE667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B6A-1C18-43FF-9608-C068F4F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5E66-7F87-4129-B9B5-5248DFE2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183-C8BE-472D-A082-A3586BAC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9B8-EA86-4334-9D8F-53E13D7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516-2930-4C89-9FA3-09785970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14D-EA4D-4DF7-9C12-8B8E1FD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69F-750A-436A-AB82-554DD12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941-7A77-4576-BD55-52680C5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8CB-62DF-44EE-A008-81563A5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09A-53CA-4FA9-ADAB-880BBFB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099-973E-4471-98CB-8D59453F06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5C9-E2E0-4E67-B1D5-EF0FD4F7EB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Freshmen</a:t>
            </a: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Purpose</a:t>
            </a: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 Advisory Focu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School Tran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ade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 portfolio requirements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High School Transi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 Crew will come to Freshmen advisories a few times throughout the year to facilitate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ing a smooth and successful high school transition is a main goal of Lin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r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37200" y="2819520"/>
            <a:ext cx="310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cadem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ford Ten/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 and final exam pr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AP career portfolio planning and support will be provided in Advisory throughout the year includ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ation information related to four-year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academic progress (AIMS prep) toward academic goals/grad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6-05T22:31:21Z</dcterms:modified>
  <cp:revision>12</cp:revision>
  <dc:subject/>
  <dc:title>Sophomore Class </dc:title>
</cp:coreProperties>
</file>